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D1F-E52D-47AA-B90F-DCD43822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E234-EADC-4D34-9E54-C892923E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D46-4E2D-4B7A-8860-D9A453E8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BAD-8786-4870-9C2C-3139C8B6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90D-9EC6-4515-A760-4B498A26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9F3C-85D4-46A7-9DC3-3D8A4630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4946-1738-4FA5-9A95-40146122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2949-59D4-43FA-8173-CEB15EFE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A262-F5B4-4212-AFF3-0CA81F2C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3DF5-222F-4AAB-839C-487BF6B8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4D3F-2A6A-481A-85EB-95C778BF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A97-15E0-47B5-A1ED-F90B6818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>
            <a:alpha val="7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F3E5-9060-42E1-8AD8-24B1682ED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efinite Arti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efinite Articles: English- T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0" t="52446" r="65559" b="17335"/>
          <a:stretch/>
        </p:blipFill>
        <p:spPr>
          <a:xfrm>
            <a:off x="228600" y="1752480"/>
            <a:ext cx="80773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arison to 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like chocolate and Fren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’aime LE chocolat et LE frança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OU CAN’T LEAVE OFF THE LE/LA/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0" t="35359" r="63682" b="14135"/>
          <a:stretch/>
        </p:blipFill>
        <p:spPr>
          <a:xfrm>
            <a:off x="914400" y="465120"/>
            <a:ext cx="73548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56003" r="63890" b="11112"/>
          <a:stretch/>
        </p:blipFill>
        <p:spPr>
          <a:xfrm>
            <a:off x="174600" y="762120"/>
            <a:ext cx="8969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9:45:30Z</dcterms:created>
  <dc:creator>Robbie</dc:creator>
  <dc:description/>
  <dc:language>en-US</dc:language>
  <cp:lastModifiedBy>Robbie</cp:lastModifiedBy>
  <dcterms:modified xsi:type="dcterms:W3CDTF">2012-09-23T19:56:35Z</dcterms:modified>
  <cp:revision>3</cp:revision>
  <dc:subject/>
  <dc:title>Definite Articles</dc:title>
</cp:coreProperties>
</file>